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1BFBB-4615-4489-A4B9-C20B7CF2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98AAB-B997-45D1-B50E-C3203915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89803-F0AE-4BDC-AD69-F9E8012C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0AFD-DA6F-4257-99E9-8C42FF7C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A5DB-1A01-4611-8437-16DE9531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2AB5-EC49-4BA3-8531-525ADAD3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E08A-161C-4389-BA0B-3C713416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5C7B-561C-48A2-AED3-20462A01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2058-F772-42E1-9D0A-15E6381F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A4C2-BCA6-4FFA-92F0-4A7C21BD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559D-AC6B-48B7-96A9-343045C4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12181-3FE8-4000-9D58-AD1DB976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832B-91EB-46D7-B213-80030FEF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D792-1983-40CD-9072-197819F0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E09D-A000-4E7E-8AFC-F9672CAB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6235-0098-45E3-8C07-859AB8BC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9F04-E354-49A0-9121-F0F440D4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0FF8-684B-4142-A90C-339A9811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E0FBD-36E0-4C57-A9ED-5336BBCF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41ADD-FF5D-45AD-97F3-EEAD47AA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F7F3D-5167-4E17-8040-8CEF77F0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92D7-8F43-495C-89F8-3BF6048A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9E0A5-A474-49FA-8CDB-ABB3CD39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AA52-A3DB-4DA1-BD8D-51ADBF93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B816-F76B-4651-9668-1C820A454E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63F8-1BDC-4633-8EE5-5AF5BD9B81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oblems with Subject-Verb Agreemen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Subjects and Verbs Don’t Ma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w, determine whether the subject is singular (one person, place, or thing) or plural (more than one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ff bite his fingernails all the ti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ubject (Jeff) 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Singul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Plu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both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ff bite his fingernails all the ti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ubject (Jeff) 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Singul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Plu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both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lly, fix the verb by matching it to the subject of the sentenc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ff bite his fingernails all the ti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subject (Jeff) is third-person singular, which of the following verbs is correc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bit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bi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b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ff bite his fingernails all the ti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subject (Jeff) is third-person singular, which of the following verbs is correc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bit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bi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b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ich verb would be correct in the following senten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tells him not to bite his nail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t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t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ell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ich verb would be correct in the following sentence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tells him not to bite his nail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t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t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ell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can you find subject-verb agreement errors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k for the five trouble spots that often signal subject-verb agreement proble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verb is a form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, have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rds come between the subject and the ver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entence has a compound subje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ubject is an indefinite pronou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verb comes before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 The verb is a form of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, have,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o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verb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, have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 not follow the rules for forming singular and plural verbs; they ar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rregular verb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verbs can cause problems for writers who in conversation use the same form in all cases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e do the cleaning; they do the cleaning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also sometimes use the wor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nstead of the correct form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he be on vacation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rms of the verb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presen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905120"/>
          <a:ext cx="8229600" cy="3565440"/>
        </p:xfrm>
        <a:graphic>
          <a:graphicData uri="http://schemas.openxmlformats.org/drawingml/2006/table">
            <a:tbl>
              <a:tblPr/>
              <a:tblGrid>
                <a:gridCol w="1828800"/>
                <a:gridCol w="2743200"/>
                <a:gridCol w="365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 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con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, he, it 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 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s 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rms of the verb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pas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2133720"/>
          <a:ext cx="8229600" cy="3417840"/>
        </p:xfrm>
        <a:graphic>
          <a:graphicData uri="http://schemas.openxmlformats.org/drawingml/2006/table">
            <a:tbl>
              <a:tblPr/>
              <a:tblGrid>
                <a:gridCol w="1981080"/>
                <a:gridCol w="2895840"/>
                <a:gridCol w="3352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w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 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con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, he, it w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 w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s w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at is subject-verb agreement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any sentence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ubject and the verb must matc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—or agree—in numb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subject i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one person, place, or thing), the verb must also be singula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subject i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ur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more than one), the verb must also be plur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rms of the verb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hav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presen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2286000"/>
          <a:ext cx="8229600" cy="3265560"/>
        </p:xfrm>
        <a:graphic>
          <a:graphicData uri="http://schemas.openxmlformats.org/drawingml/2006/table">
            <a:tbl>
              <a:tblPr/>
              <a:tblGrid>
                <a:gridCol w="1905120"/>
                <a:gridCol w="289548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 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con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, he, it h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 h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s 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rms of the verb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present ten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80880" y="2209680"/>
          <a:ext cx="8229600" cy="2884320"/>
        </p:xfrm>
        <a:graphic>
          <a:graphicData uri="http://schemas.openxmlformats.org/drawingml/2006/table">
            <a:tbl>
              <a:tblPr/>
              <a:tblGrid>
                <a:gridCol w="1981080"/>
                <a:gridCol w="2971800"/>
                <a:gridCol w="327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con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, he, it do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 do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s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king subjects and verbs agree when the verb is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be, have,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o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 (am / is / are) a believer in maps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, find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: is the subject in the first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, second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, or third person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e/s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First pers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: Is the subject singular or plural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ingul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 (am / is / are) a believer in ma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verb by matching it to the form of the subject (first person, singular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I am a believer in map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I is a believer in map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I are a believer in map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 (am / is / are) a believer in ma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verb by matching it to the form of the subject (first person, singular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I am a believer in map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I is a believer in map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I are a believer in map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nd fix the subject-verb agreement problem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of my friends say that my biggest proble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at I waste tim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nd fix the subject-verb agreement problem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of my friends say that my biggest proble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at I waste tim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nd fix the subject-verb agreement problem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friend Jocely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word for it: procrastin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nd fix the subject-verb agreement problem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friend Jocely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word for it: procrastin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Words come between the subject and the verb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the subject and verb aren’t right next to each other, it is more difficult to find them and to make sure they agre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often, either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epositional phra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pendent clau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omes between the subject and the verb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ngular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kydiv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ump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ut of the airpla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ural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kydiver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um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ut of the airplan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2666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3886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epositional phrase between the subject and the verb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positional phras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rts with a preposition and ends with a noun or pronoun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took a na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n my be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woke u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fter dinn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ubject of a sentence is never in a prepositional phras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you are looking for the subject of a sentence, you can cross out any prepositional phrases. This strategy should help you to find the real subject and decide whether it agrees with the verb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king subjects and verbs agree when they are separated by a prepositional phra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uden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n a tight schedule (know / knows)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shouldn’t procrastinat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, underline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oss out any prepositional phr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: Is the subject singular or plural?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lur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2971800"/>
            <a:ext cx="32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form of the verb that matches the third person plural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udents on a tight schedule (know / knows)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shouldn’t procrastinat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kn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know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form of the verb that matches the third person plural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udents on a tight schedule (know / knows)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shouldn’t procrastinat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kn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know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pendent clause between the subject and the verb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pendent claus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s a subject and a verb, but it does not express a complete though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a dependent clause comes between the subject and the verb, it usually starts with the wor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who, whose, whom, that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whic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ubject of a sentence is never a dependent clause. When you are looking for the subject of a sentence, you can cross out any dependent clau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king subjects and verbs agree when they are separated by a dependent claus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a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who is one of my brothers, (distrac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/distracts) me whenever I try to stud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, underline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oss out any dependent clau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: Is the subject singular or plural?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ingul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2590920"/>
            <a:ext cx="4495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form of the verb that matches the third-person singular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ave, who is one of my brothers, (distract /distracts) me whenever I try to stud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distr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distra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form of the verb that matches the third-person singular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ave, who is one of my brothers, (distract /distracts) me whenever I try to stud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distr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distra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 The sentence has a compound subjec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pound subjec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two (or more) subjects join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nd, or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o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wo subjects are join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hey combine to become a plural subject, and the verb must be plural to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wo subjects are separated by the wor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o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hey are not combined. The verb should agree with whichever subject is closer to i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king subjects and verbs agree in a sentence with a compound subjec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ithe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ocely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help / helps) me stay focused when I have a long paper to wri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, underline the subjec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ircle the word between the subjec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: Does that word join the subjects to make them plural or keep them separate?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Keeps them separa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: Is the subject that is closer to the verb singular or plural?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ingul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1752480"/>
            <a:ext cx="457200" cy="304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erb Ending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gular verbs (with forms that follow standard English patterns) have two forms in the present tense: one that ends 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one that has no end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rd-person subject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e, she, it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singular nouns always use the form that ends 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-person subjects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, second-person subjects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, and plural subjects use the form with no ending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verb form that agrees with the subject that is closer to the verb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ither Jocelyn or Dan (help / helps) me stay focused when I have a long paper to wri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e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el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verb form that agrees with the subject that is closer to the verb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ither Jocelyn or Dan (help / helps) me stay focused when I have a long paper to wri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e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hel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The subject is an indefinite pronoun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definite pronou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laces a general person, place, or thing or a general group of people, places, or thing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ten, an indefinite pronoun is followed by a prepositional phrase or dependent clause. Remember that the verb of a sentence must agree with the subject of the sentence, and the subject of a sentence i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ever in a prepositional phrase or dependent clau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efinite pronouns are often singular, though there are some excep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ways singular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nother, anybody, anyone, anything, each (of), either (of), everybody, everyone, everything, much, neither (of), nobody, no one, nothing, one (of), somebody, someone, someth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y be singular or plural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ll, any, none, so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king subjects and verbs agree when the subject is an indefinite pronoun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n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f my worst habits (is / are) procrastinating by watching mov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, underline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oss out any prepositional phrase or dependent clause that follows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: Is the subject singular or plural?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ingul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7432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verb form that agrees with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ne of my worst habits (is / are) procrastinating by watching mov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verb form that agrees with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ne of my worst habits (is / are) procrastinating by watching mov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The verb comes before the subjec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most sentences, the subject comes before the verb. Two kinds of sentences often reverse the usual subject-verb order: questions and sentences that begin wit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e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he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se two types of sentences, you need to check for errors in subject-verb agreemen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questions, the verb or part of the verb comes before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find the subject and verb, you can turn the question around as if you were going to answer i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ere is the theater? / The theater is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re you leaving? / You are leav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Sentences that begin with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her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there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a sentence begins wit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e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he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he subject often follows the verb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urn the sentence around to find the subject and verb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He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s your purse. / Your purse is her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The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re the car keys. / The car keys are there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erb Endings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1676520"/>
          <a:ext cx="9144000" cy="3898800"/>
        </p:xfrm>
        <a:graphic>
          <a:graphicData uri="http://schemas.openxmlformats.org/drawingml/2006/table">
            <a:tbl>
              <a:tblPr/>
              <a:tblGrid>
                <a:gridCol w="1981080"/>
                <a:gridCol w="2895840"/>
                <a:gridCol w="1143000"/>
                <a:gridCol w="3124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walk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–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 walk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con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walk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walk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(she, it) walks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oe walks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 walks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l end in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–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walk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oe and Alice walk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students walk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king subjects and verbs agree when the verb comes before the subjec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movies (is / are) this theater showi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sentence is a question, turn the question into a statement.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This theater (is / are) showing the movi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the subject in the new sentence.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Theat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: Is the subject singular or plural?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ingul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form of the verb that matches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movies (is / are) this theater showi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s theater (is / are) showing the mov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form of the verb that matches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movies (is / are) this theater showi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s theater (is / are) showing the mov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king subjects and verbs agree when the verb comes before the subjec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re (is / are) two good films at this the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sentence begins wit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er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he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urn it around: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Two good films (is / are) at this theat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the subject in the new sentence.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Film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: Is the subject singular or plural?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lur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form of the verb that matches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re (is / are) two good films at this the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wo good films (is / are) at this the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the form of the verb that matches the subjec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re (is / are) two good films at this the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wo good films (is / are) at this the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teache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us a quiz every wee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giv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g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gi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teache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us a quiz every wee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giv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g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gi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e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wo copies of the article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e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wo copies of the article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can you find subject-verb agreement problems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, locate the subject of the sentence. Ask yourself, who or what is the subject about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 following sentence, what is the subject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ff bite his fingernails all the time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Je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b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fingernai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artic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ood ideas for saving ener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ve h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artic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ood ideas for saving ener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ve h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e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cars park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e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cars park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o o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ik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fill out tax for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ve lik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lik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li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o o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ik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fill out tax for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have lik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lik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li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athletes who qualify for the rac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-shir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got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g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get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athletes who qualify for the rac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-shir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got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) g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get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ither Betty nor the childr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a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e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s ea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ea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recting various problems with subject-verb agreement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ither Betty nor the childr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a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e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should be used in place of the underlined verb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has ea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ea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can you find subject-verb agreement problems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 following sentence, what is the subject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ff bite his fingernails all the time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Je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b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fingernai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xt, determine whether the subject refers to the first person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/w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, the second person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, or the third person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e/she/it/the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ff bite his fingernails all the tim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ubject of this sentence (Jeff) is in th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First per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Second per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Third per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ff bite his fingernails all the tim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ubject of this sentence (Jeff) is in th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First per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Second per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) Third per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none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6:27:44Z</dcterms:created>
  <dc:creator>BSM</dc:creator>
  <dc:description/>
  <dc:language>en-US</dc:language>
  <cp:lastModifiedBy>BSM</cp:lastModifiedBy>
  <dcterms:modified xsi:type="dcterms:W3CDTF">2008-02-14T16:30:11Z</dcterms:modified>
  <cp:revision>172</cp:revision>
  <dc:subject/>
  <dc:title>Problems with Subject-Verb Agreement</dc:title>
</cp:coreProperties>
</file>